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64B-D0F9-45C5-91ED-38D5C9C0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696-102A-4E78-9956-46D63FDA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065-1CEA-4682-85BD-1F22F448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8AF-DBBD-4B7E-B64D-1A69ABE9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96D-65FA-46C0-8783-885E0DF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F1C-D772-4492-AB8C-91CEA82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F38-D157-486D-932E-AB1AF62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656-E90E-4F03-8DD7-E43E70E7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DB5-90BB-46F6-AC16-0611FB1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C33-47C8-43A3-8784-B049B77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71B-1AB0-417E-94A1-5617366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120-B9BE-4A8D-8503-FA6478D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5B78-346F-4E92-AE97-431355AD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tege.stanford.edu/overview/protege-owl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CIEditTab – A Protégé TabWidget Plug-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m Ong,  Iris G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to NCI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2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05200" y="4648320"/>
            <a:ext cx="1438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95680" y="2282760"/>
            <a:ext cx="4038840" cy="358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CIEditTab - a Tab Widget Plug-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plugins\gov.nih.nci.protegex.ncieditt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35053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209680"/>
            <a:ext cx="23623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4240" y="198108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generator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22760" y="6095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on top of Protégé OWL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390680" y="2295360"/>
            <a:ext cx="135252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4760" y="2514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480" y="31384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2"/>
            <a:endCxn id="92" idx="1"/>
          </p:cNvCxnSpPr>
          <p:nvPr/>
        </p:nvCxnSpPr>
        <p:spPr>
          <a:xfrm flipH="1" rot="16200000">
            <a:off x="1646640" y="3999960"/>
            <a:ext cx="167724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770760" y="29098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97520" y="259092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and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1295280" y="3809880"/>
            <a:ext cx="1524240" cy="1020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2360" y="4114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5627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ies an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 on Core Protégé and OWL Plug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Query Plug-in (AQ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 – workflow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IEditTab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med class (i.e., conce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YNs (i.e., terms, or synonyms with term group, source, and source code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and qua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(roles and role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super-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 (object-valued annotation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plex properties with qua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lass (by authorized us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IEditTab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e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concepts in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concepts in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artonom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data elements betwee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vanced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by-name and by-code OWL data forma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IEditTab Main User Interf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040" y="1219320"/>
            <a:ext cx="8002440" cy="5002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89480" y="622152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920600" y="59421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9400" y="3478320"/>
            <a:ext cx="3524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xonomy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rag and 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“hard” de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ing brings up a read-only Edit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70320" y="20574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s mapped to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7000" y="2944800"/>
            <a:ext cx="38077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Panel (customized class ed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259000"/>
            <a:ext cx="17524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63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55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62440" y="5307120"/>
            <a:ext cx="29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all changes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62520" y="213336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Based UI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344600"/>
            <a:ext cx="7772400" cy="4675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73280" y="3124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3280" y="48769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9240" y="6248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5909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s are editable through pop-up menu and dialog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use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3280" y="60958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re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1494000"/>
            <a:ext cx="748512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7960" y="4724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3600" y="317484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Panel as shown earl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3962520"/>
            <a:ext cx="8380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6040" y="43657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-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86000"/>
            <a:ext cx="2133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subclass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ing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57800" y="54864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4680" y="62485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ve But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560" y="4191120"/>
            <a:ext cx="4478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 changes to OWL plug-in tabl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ing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are Saved in 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6248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onomy Tre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5486400" cy="1371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3809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Action Requires Specific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3400" y="144792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661200" y="60958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Group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2590920"/>
            <a:ext cx="1295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3429000"/>
            <a:ext cx="1295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4343400"/>
            <a:ext cx="1295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1960" y="15238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IEditTab plug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le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group express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xpression: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U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re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resent simple restric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note role group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U represent the intersection and union operators, resp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Group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248520" cy="4898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747880" y="6195960"/>
            <a:ext cx="35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content are for illustration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46712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31080" y="2157480"/>
            <a:ext cx="7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1120" y="2919240"/>
            <a:ext cx="118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600200"/>
            <a:ext cx="14475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8760" y="327672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corresponds to a simple restriction/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Group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d in KB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IntersectionClass: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UnionClass: U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LRestriction: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generat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 with A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7252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3720" y="5791320"/>
            <a:ext cx="6858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38280" y="42667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3044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97180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 with AQP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wo-way commun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406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467480" y="3352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6440" y="5029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5627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457200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68680" y="61722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e AQ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0080" y="426708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ke NCIEdit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5334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62120" y="617220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d in class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6520" y="43178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7913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IEditTab Class Hierarch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Graphviz plo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4181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880" y="17524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equenc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90720" y="984240"/>
            <a:ext cx="7086600" cy="526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16960" y="632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NCICB effort in migrating EVS to open terminology development and open terminology serve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égé/OWL ontology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E/Jekyll Metathesauru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pelon’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tylog editor by Stanford Medical Informatics (SMI’s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tégé OWL ontology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NCIEditT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ain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user privilege through remote meta-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ICode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Wrap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Hand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IEdit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e/initialize panel for each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actionPerformed method to respond to each user command (i.e., button-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038840" cy="2523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00800" y="4419720"/>
            <a:ext cx="1371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6292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dit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ser-interface for editing a single cla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FULL_SY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DEFINITION properties (and qualif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 (i.e., role and role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super-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valued annotation properties (i.e., associ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simple annot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complex annotation properties and qualifiers (for example, GO Ann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ree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content of a concept in a tre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drag and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dit functions through pop-up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Split, Pre-Merge, Merge, Pre-Retire, Retire, and Copy t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876920" y="4343400"/>
            <a:ext cx="28191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ventLis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flicts by alerting the user when the content of a concept the user is editing has been modified by another 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on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NCICode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code generator server through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the value of rdf:ID or code annotation property for each new class depending on the underlying format of the OWL knowledge base (i.e., by code or by na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OWLWr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4479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wrapper for Protégé/OWL A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collection of convenien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by DataHandler on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ata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d by NCIEditTab saveConcep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e business rules using NCIEditFil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states of a concept (old versus new) to identify new and deleted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OWLWrapper to update the underlying OWL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NCIEdit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ed by DataHandler on S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business rule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any retired concept from being selected by the user as a  super-class of any concept, or as a filler for a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 between Preferred Name, FULL_SYN, and rdfs:labe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llow leading or trailing spaces in propert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llow spaces between tokens (i.e.,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xistence and uniqueness of some property qua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lasses -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4032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747160" y="61722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dit a FULL_SYN Annotation Prop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2590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4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32412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action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5562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29528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2560" y="2286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7960" y="83808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de segment taken from NCIEditT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6320" y="2819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52480" y="17524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égé-OWL Edito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135252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952880"/>
            <a:ext cx="14385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781680" y="3581280"/>
            <a:ext cx="143856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2057400"/>
            <a:ext cx="1467000" cy="116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019920" y="5105520"/>
            <a:ext cx="1466640" cy="11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8160" y="1981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8960" y="50292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5000" y="3048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9" idx="2"/>
            <a:endCxn id="58" idx="4"/>
          </p:cNvCxnSpPr>
          <p:nvPr/>
        </p:nvCxnSpPr>
        <p:spPr>
          <a:xfrm flipH="1" rot="16200000">
            <a:off x="2432880" y="2653200"/>
            <a:ext cx="467280" cy="1085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Cloud"/>
          <p:cNvSpPr/>
          <p:nvPr/>
        </p:nvSpPr>
        <p:spPr>
          <a:xfrm>
            <a:off x="3200400" y="250992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8" idx="5"/>
          </p:cNvCxnSpPr>
          <p:nvPr/>
        </p:nvCxnSpPr>
        <p:spPr>
          <a:xfrm rot="5400000">
            <a:off x="4230360" y="4611600"/>
            <a:ext cx="606960" cy="766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" name=""/>
          <p:cNvCxnSpPr>
            <a:endCxn id="51" idx="1"/>
          </p:cNvCxnSpPr>
          <p:nvPr/>
        </p:nvCxnSpPr>
        <p:spPr>
          <a:xfrm>
            <a:off x="5943600" y="373392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V="1">
            <a:off x="5943240" y="2666520"/>
            <a:ext cx="1145160" cy="791280"/>
          </a:xfrm>
          <a:prstGeom prst="curvedConnector5">
            <a:avLst>
              <a:gd name="adj1" fmla="val 50062"/>
              <a:gd name="adj2" fmla="val 49977"/>
              <a:gd name="adj3" fmla="val 500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64320" y="3124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191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7800" y="3733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50080" y="28195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action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366280" y="137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back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4200" y="4952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62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18960" y="36576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4821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43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9917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91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nience Methods – OWL Wra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 classes, ~40,000 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most Ontylog editor 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llaborate with Stanford Medical Informatics to optimize th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user simulator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égé-OWL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and save OWL and RDF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and visualize classes, properties, and SWRL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logical class characteristics and OW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reasoners such as description logic class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OWL individuals for Semantic Web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35680" y="6172200"/>
            <a:ext cx="597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otege.stanford.edu/overview/protege-owl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RL: Semantic Web Rule Language (combine OWL and Rule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égé/OWL Editor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of a single knowledge base by multip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bility (e.g., Advanced Search Plug-in (AQP) by SMI and University of Vic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 –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98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52920" y="617220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CI Thesau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1800" y="175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:ID, rdfs:label, rdfs:comment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81600" y="220968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type annotation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00200" y="274320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ous super-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triction, r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4200" y="37339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super-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7040" y="480060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type annotation property (with qualifi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3680" y="533412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valued annotation property (assoc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y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and Primativ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62160" y="15238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ype annotation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valued annotation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and Sufficient and Necessary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asy way to represent qualifiers – use micro-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200" y="5943600"/>
            <a:ext cx="585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“Status of EVS migration to open terminology development to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pen terminology server software” by Sherri de Coronado and Gilberto Frag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égé/OWL Editor Main 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4068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61722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904760" y="58669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87480" y="3733920"/>
            <a:ext cx="2111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xonom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ing br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an OWL class editor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p-up win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5880" y="3733920"/>
            <a:ext cx="41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L Class Editor (for editing a single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86000"/>
            <a:ext cx="6858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666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sub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sibling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selected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2:25:16Z</dcterms:created>
  <dc:creator>Ong</dc:creator>
  <dc:description/>
  <dc:language>en-US</dc:language>
  <cp:lastModifiedBy>Ong</cp:lastModifiedBy>
  <dcterms:modified xsi:type="dcterms:W3CDTF">2007-02-20T15:46:45Z</dcterms:modified>
  <cp:revision>310</cp:revision>
  <dc:subject/>
  <dc:title>Slide 1</dc:title>
</cp:coreProperties>
</file>