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84640" y="2263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901"/>
              </a:spcBef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40" name=""/>
            <p:cNvSpPr/>
            <p:nvPr/>
          </p:nvSpPr>
          <p:spPr>
            <a:xfrm>
              <a:off x="0" y="3049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6094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0" y="9144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12193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15238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18288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21337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24382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27432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481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3526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6576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39625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2670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0" y="45720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0" y="48769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0" y="51814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0" y="54864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57913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0" y="609588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640080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6705720"/>
              <a:ext cx="9144000" cy="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49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94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193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5238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288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4382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7432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0481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3526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6576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9625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670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720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69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1814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4864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913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0958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4008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057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0102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3152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6201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9246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22960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53452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839080" y="0"/>
              <a:ext cx="0" cy="6858000"/>
            </a:xfrm>
            <a:prstGeom prst="line">
              <a:avLst/>
            </a:prstGeom>
            <a:ln w="9360">
              <a:solidFill>
                <a:srgbClr val="cfdbf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2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2.wmf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.wmf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3.wmf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2.wmf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6589800" y="3354480"/>
          <a:ext cx="574560" cy="119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9800" y="3354480"/>
                    <a:ext cx="574560" cy="11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7254720" y="3457440"/>
          <a:ext cx="1281240" cy="95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54720" y="3457440"/>
                    <a:ext cx="1281240" cy="9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6665760" y="5043600"/>
          <a:ext cx="574920" cy="119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65760" y="5043600"/>
                    <a:ext cx="574920" cy="11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7302600" y="5146560"/>
          <a:ext cx="1280880" cy="951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02600" y="5146560"/>
                    <a:ext cx="1280880" cy="9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2182680" y="3430440"/>
          <a:ext cx="574920" cy="1192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82680" y="3430440"/>
                    <a:ext cx="574920" cy="11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774720" y="3584520"/>
          <a:ext cx="1281240" cy="9511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74720" y="3584520"/>
                    <a:ext cx="1281240" cy="9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"/>
          <p:cNvGraphicFramePr/>
          <p:nvPr/>
        </p:nvGraphicFramePr>
        <p:xfrm>
          <a:off x="2170080" y="5056200"/>
          <a:ext cx="574560" cy="1192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170080" y="5056200"/>
                    <a:ext cx="574560" cy="11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762120" y="5210280"/>
          <a:ext cx="1280880" cy="95076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62120" y="5210280"/>
                    <a:ext cx="128088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329000" y="1932120"/>
          <a:ext cx="574920" cy="119196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329000" y="1932120"/>
                    <a:ext cx="574920" cy="11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"/>
          <p:cNvSpPr/>
          <p:nvPr/>
        </p:nvSpPr>
        <p:spPr>
          <a:xfrm>
            <a:off x="3462120" y="3179880"/>
            <a:ext cx="23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caBIO/caCORE Serve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97560" y="3530520"/>
            <a:ext cx="0" cy="236232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2935080" y="5880240"/>
            <a:ext cx="1672920" cy="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2935080" y="4102200"/>
            <a:ext cx="1672920" cy="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595760" y="4889520"/>
            <a:ext cx="434880" cy="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016600" y="4330800"/>
            <a:ext cx="0" cy="105408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5005080" y="5372280"/>
            <a:ext cx="1228680" cy="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11960" y="396720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caBI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978840" y="560556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caDS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>
            <a:off x="5005080" y="4343400"/>
            <a:ext cx="1228680" cy="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49200" y="930240"/>
            <a:ext cx="1721160" cy="819360"/>
          </a:xfrm>
          <a:prstGeom prst="ellipse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522440" y="560520"/>
            <a:ext cx="2089080" cy="819000"/>
          </a:xfrm>
          <a:prstGeom prst="ellipse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25400" y="668160"/>
            <a:ext cx="1447920" cy="819360"/>
          </a:xfrm>
          <a:prstGeom prst="ellipse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23000" y="89532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terne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H="1" flipV="1">
            <a:off x="3060360" y="1606680"/>
            <a:ext cx="1073160" cy="43632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301880" y="3746520"/>
            <a:ext cx="123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Met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Thesauru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26000" y="558468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Thesauru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182760" y="3819600"/>
            <a:ext cx="11811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caCORE caBIO ap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05160" y="5572080"/>
            <a:ext cx="100332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caCORE caDSR ap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14880" y="4600440"/>
            <a:ext cx="14004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caCORE EVS ap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138560" y="380880"/>
            <a:ext cx="489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caCORE Simplified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NCI Thesaurus Production Environment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762120" y="1295280"/>
          <a:ext cx="7238880" cy="490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95280"/>
                    <a:ext cx="7238880" cy="49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2286000" y="0"/>
            <a:ext cx="6248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History-Enhanced Retrieval 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of Indexed Document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227520" y="1139760"/>
            <a:ext cx="145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Thesaurus 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version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2529000"/>
            <a:ext cx="7772400" cy="0"/>
          </a:xfrm>
          <a:prstGeom prst="line">
            <a:avLst/>
          </a:prstGeom>
          <a:ln w="25560">
            <a:solidFill>
              <a:srgbClr val="4045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09480" y="3367080"/>
            <a:ext cx="7772400" cy="0"/>
          </a:xfrm>
          <a:prstGeom prst="line">
            <a:avLst/>
          </a:prstGeom>
          <a:ln w="25560">
            <a:solidFill>
              <a:srgbClr val="4045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09480" y="4205160"/>
            <a:ext cx="7772400" cy="0"/>
          </a:xfrm>
          <a:prstGeom prst="line">
            <a:avLst/>
          </a:prstGeom>
          <a:ln w="25560">
            <a:solidFill>
              <a:srgbClr val="4045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09480" y="5043600"/>
            <a:ext cx="7772400" cy="0"/>
          </a:xfrm>
          <a:prstGeom prst="line">
            <a:avLst/>
          </a:prstGeom>
          <a:ln w="25560">
            <a:solidFill>
              <a:srgbClr val="4045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1995480"/>
            <a:ext cx="22860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3124080" y="2833560"/>
            <a:ext cx="22860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257800" y="2833560"/>
            <a:ext cx="228600" cy="2286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124080" y="3672000"/>
            <a:ext cx="228600" cy="2286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962520" y="3672000"/>
            <a:ext cx="22860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438280" y="4510080"/>
            <a:ext cx="228600" cy="2286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905120" y="3672000"/>
            <a:ext cx="228600" cy="2286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1905120" y="2833560"/>
            <a:ext cx="228600" cy="2286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05120" y="1995480"/>
            <a:ext cx="228600" cy="2286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057400" y="2224080"/>
            <a:ext cx="0" cy="609480"/>
          </a:xfrm>
          <a:prstGeom prst="line">
            <a:avLst/>
          </a:prstGeom>
          <a:ln w="316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3062160"/>
            <a:ext cx="0" cy="609840"/>
          </a:xfrm>
          <a:prstGeom prst="line">
            <a:avLst/>
          </a:prstGeom>
          <a:ln w="316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057400" y="3900600"/>
            <a:ext cx="457200" cy="609480"/>
          </a:xfrm>
          <a:prstGeom prst="line">
            <a:avLst/>
          </a:prstGeom>
          <a:ln w="316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2590560" y="3900600"/>
            <a:ext cx="609480" cy="685800"/>
          </a:xfrm>
          <a:prstGeom prst="line">
            <a:avLst/>
          </a:prstGeom>
          <a:ln w="316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200400" y="2147760"/>
            <a:ext cx="0" cy="685800"/>
          </a:xfrm>
          <a:prstGeom prst="line">
            <a:avLst/>
          </a:prstGeom>
          <a:ln w="316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200400" y="2986200"/>
            <a:ext cx="0" cy="761760"/>
          </a:xfrm>
          <a:prstGeom prst="line">
            <a:avLst/>
          </a:prstGeom>
          <a:ln w="316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276720" y="2986200"/>
            <a:ext cx="761760" cy="685800"/>
          </a:xfrm>
          <a:prstGeom prst="line">
            <a:avLst/>
          </a:prstGeom>
          <a:ln w="316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505320" y="4510080"/>
            <a:ext cx="22860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3657600" y="3900600"/>
            <a:ext cx="380880" cy="609480"/>
          </a:xfrm>
          <a:prstGeom prst="line">
            <a:avLst/>
          </a:prstGeom>
          <a:ln w="316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4510080"/>
            <a:ext cx="22860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114800" y="3824280"/>
            <a:ext cx="533520" cy="685800"/>
          </a:xfrm>
          <a:prstGeom prst="line">
            <a:avLst/>
          </a:prstGeom>
          <a:ln w="316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257800" y="3672000"/>
            <a:ext cx="22860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257800" y="1995480"/>
            <a:ext cx="228600" cy="2286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410080" y="2224080"/>
            <a:ext cx="0" cy="609480"/>
          </a:xfrm>
          <a:prstGeom prst="line">
            <a:avLst/>
          </a:prstGeom>
          <a:ln w="316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410080" y="3062160"/>
            <a:ext cx="0" cy="609840"/>
          </a:xfrm>
          <a:prstGeom prst="line">
            <a:avLst/>
          </a:prstGeom>
          <a:ln w="316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257800" y="4510080"/>
            <a:ext cx="228600" cy="228600"/>
          </a:xfrm>
          <a:prstGeom prst="ellipse">
            <a:avLst/>
          </a:prstGeom>
          <a:solidFill>
            <a:srgbClr val="00ffff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410080" y="3900600"/>
            <a:ext cx="0" cy="609480"/>
          </a:xfrm>
          <a:prstGeom prst="line">
            <a:avLst/>
          </a:prstGeom>
          <a:ln w="316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038480" y="1995480"/>
            <a:ext cx="22860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3962520" y="2833560"/>
            <a:ext cx="228600" cy="2286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114800" y="2147760"/>
            <a:ext cx="0" cy="685800"/>
          </a:xfrm>
          <a:prstGeom prst="line">
            <a:avLst/>
          </a:prstGeom>
          <a:ln w="316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114800" y="3062160"/>
            <a:ext cx="0" cy="609840"/>
          </a:xfrm>
          <a:prstGeom prst="line">
            <a:avLst/>
          </a:prstGeom>
          <a:ln w="316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6019920" y="2833560"/>
            <a:ext cx="228600" cy="2286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410080" y="2224080"/>
            <a:ext cx="685800" cy="609480"/>
          </a:xfrm>
          <a:prstGeom prst="line">
            <a:avLst/>
          </a:prstGeom>
          <a:ln w="316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6019920" y="3672000"/>
            <a:ext cx="228600" cy="2286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6172200" y="3062160"/>
            <a:ext cx="0" cy="609840"/>
          </a:xfrm>
          <a:prstGeom prst="line">
            <a:avLst/>
          </a:prstGeom>
          <a:ln w="316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 flipH="1">
            <a:off x="5409720" y="3900600"/>
            <a:ext cx="685800" cy="609480"/>
          </a:xfrm>
          <a:prstGeom prst="line">
            <a:avLst/>
          </a:prstGeom>
          <a:ln w="316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629400" y="2833560"/>
            <a:ext cx="228600" cy="2286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629400" y="3672000"/>
            <a:ext cx="228600" cy="2286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781680" y="3062160"/>
            <a:ext cx="0" cy="609840"/>
          </a:xfrm>
          <a:prstGeom prst="line">
            <a:avLst/>
          </a:prstGeom>
          <a:ln w="316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629400" y="4510080"/>
            <a:ext cx="228600" cy="2286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781680" y="3900600"/>
            <a:ext cx="0" cy="609480"/>
          </a:xfrm>
          <a:prstGeom prst="line">
            <a:avLst/>
          </a:prstGeom>
          <a:ln w="316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238880" y="1995480"/>
            <a:ext cx="228600" cy="2286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238880" y="2833560"/>
            <a:ext cx="228600" cy="2286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7391520" y="2224080"/>
            <a:ext cx="0" cy="609480"/>
          </a:xfrm>
          <a:prstGeom prst="line">
            <a:avLst/>
          </a:prstGeom>
          <a:ln w="316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7238880" y="3672000"/>
            <a:ext cx="228600" cy="228600"/>
          </a:xfrm>
          <a:prstGeom prst="ellipse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7391520" y="3062160"/>
            <a:ext cx="0" cy="609840"/>
          </a:xfrm>
          <a:prstGeom prst="line">
            <a:avLst/>
          </a:prstGeom>
          <a:ln w="316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327000" y="2514600"/>
            <a:ext cx="59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ne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860160" y="38242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retir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812040" y="434340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split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212200" y="3733920"/>
            <a:ext cx="8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merg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21880" y="3505320"/>
            <a:ext cx="8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modif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04920" y="206856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Version 1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04920" y="298296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Version 2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04920" y="382104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Version 3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920" y="4643280"/>
            <a:ext cx="125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Version 4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2057040" y="2224080"/>
            <a:ext cx="1143000" cy="685800"/>
          </a:xfrm>
          <a:prstGeom prst="line">
            <a:avLst/>
          </a:prstGeom>
          <a:ln w="316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343400" y="5867280"/>
            <a:ext cx="228600" cy="228600"/>
          </a:xfrm>
          <a:prstGeom prst="ellipse">
            <a:avLst/>
          </a:prstGeom>
          <a:solidFill>
            <a:srgbClr val="ccffcc"/>
          </a:solidFill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029200" y="5943600"/>
            <a:ext cx="335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Concepts used for retrieval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114800" y="4800600"/>
            <a:ext cx="152280" cy="685800"/>
          </a:xfrm>
          <a:prstGeom prst="upArrow">
            <a:avLst>
              <a:gd name="adj1" fmla="val 50000"/>
              <a:gd name="adj2" fmla="val 112589"/>
            </a:avLst>
          </a:prstGeom>
          <a:solidFill>
            <a:srgbClr val="ffffff"/>
          </a:solidFill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505760" y="5105520"/>
            <a:ext cx="351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Traverse the history net to find th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right indexing terms for retrieval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7924680" y="1828800"/>
            <a:ext cx="609840" cy="53352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7924680" y="2666880"/>
            <a:ext cx="609840" cy="53352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7924680" y="3505320"/>
            <a:ext cx="609840" cy="53316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924680" y="4343400"/>
            <a:ext cx="609840" cy="533520"/>
          </a:xfrm>
          <a:prstGeom prst="can">
            <a:avLst>
              <a:gd name="adj" fmla="val 25000"/>
            </a:avLst>
          </a:prstGeom>
          <a:solidFill>
            <a:srgbClr val="ccffcc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038480" y="5700600"/>
            <a:ext cx="228600" cy="228600"/>
          </a:xfrm>
          <a:prstGeom prst="ellipse">
            <a:avLst/>
          </a:prstGeom>
          <a:solidFill>
            <a:srgbClr val="ccffcc"/>
          </a:solidFill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114800" y="6019920"/>
            <a:ext cx="228600" cy="228600"/>
          </a:xfrm>
          <a:prstGeom prst="ellipse">
            <a:avLst/>
          </a:prstGeom>
          <a:solidFill>
            <a:srgbClr val="ccffcc"/>
          </a:solidFill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809880" y="5776920"/>
            <a:ext cx="228600" cy="228600"/>
          </a:xfrm>
          <a:prstGeom prst="ellipse">
            <a:avLst/>
          </a:prstGeom>
          <a:solidFill>
            <a:srgbClr val="ccffcc"/>
          </a:solidFill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4648320" y="6005520"/>
            <a:ext cx="228600" cy="228600"/>
          </a:xfrm>
          <a:prstGeom prst="ellipse">
            <a:avLst/>
          </a:prstGeom>
          <a:solidFill>
            <a:srgbClr val="ccffcc"/>
          </a:solidFill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523880" y="1828800"/>
            <a:ext cx="304920" cy="3124080"/>
          </a:xfrm>
          <a:prstGeom prst="downArrow">
            <a:avLst>
              <a:gd name="adj1" fmla="val 50000"/>
              <a:gd name="adj2" fmla="val 256139"/>
            </a:avLst>
          </a:prstGeom>
          <a:solidFill>
            <a:srgbClr val="ffffff"/>
          </a:solidFill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696080" y="1828800"/>
            <a:ext cx="0" cy="3352680"/>
          </a:xfrm>
          <a:prstGeom prst="line">
            <a:avLst/>
          </a:prstGeom>
          <a:ln w="25560">
            <a:solidFill>
              <a:srgbClr val="40458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674120" y="1246320"/>
            <a:ext cx="1328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pre-indexed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document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447920" y="5715000"/>
            <a:ext cx="14475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Search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Arial"/>
              </a:rPr>
              <a:t>Engine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073000" y="1979640"/>
            <a:ext cx="4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660066"/>
                </a:solidFill>
                <a:latin typeface="Arial"/>
              </a:rPr>
              <a:t>1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078760" y="2832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R</a:t>
            </a:r>
            <a:r>
              <a:rPr b="0" lang="en-US" sz="900" spc="-1" strike="noStrike">
                <a:solidFill>
                  <a:srgbClr val="660066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8079480" y="3656160"/>
            <a:ext cx="4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660066"/>
                </a:solidFill>
                <a:latin typeface="Arial"/>
              </a:rPr>
              <a:t>3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8079480" y="4494240"/>
            <a:ext cx="4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R</a:t>
            </a:r>
            <a:r>
              <a:rPr b="0" lang="en-US" sz="800" spc="-1" strike="noStrike">
                <a:solidFill>
                  <a:srgbClr val="660066"/>
                </a:solidFill>
                <a:latin typeface="Arial"/>
              </a:rPr>
              <a:t>4</a:t>
            </a:r>
            <a:endParaRPr b="0" lang="en-US" sz="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H="1">
            <a:off x="2971800" y="6019920"/>
            <a:ext cx="533520" cy="0"/>
          </a:xfrm>
          <a:prstGeom prst="line">
            <a:avLst/>
          </a:prstGeom>
          <a:ln w="31680">
            <a:solidFill>
              <a:srgbClr val="40458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Tahoma"/>
              </a:rPr>
              <a:t>Structure of History Table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560520" y="1828800"/>
            <a:ext cx="4011120" cy="4267080"/>
            <a:chOff x="560520" y="1828800"/>
            <a:chExt cx="4011120" cy="4267080"/>
          </a:xfrm>
        </p:grpSpPr>
        <p:grpSp>
          <p:nvGrpSpPr>
            <p:cNvPr id="466" name=""/>
            <p:cNvGrpSpPr/>
            <p:nvPr/>
          </p:nvGrpSpPr>
          <p:grpSpPr>
            <a:xfrm>
              <a:off x="565200" y="1830960"/>
              <a:ext cx="4000680" cy="4262040"/>
              <a:chOff x="565200" y="1830960"/>
              <a:chExt cx="4000680" cy="4262040"/>
            </a:xfrm>
          </p:grpSpPr>
          <p:grpSp>
            <p:nvGrpSpPr>
              <p:cNvPr id="467" name=""/>
              <p:cNvGrpSpPr/>
              <p:nvPr/>
            </p:nvGrpSpPr>
            <p:grpSpPr>
              <a:xfrm>
                <a:off x="565200" y="1830960"/>
                <a:ext cx="1628640" cy="400680"/>
                <a:chOff x="565200" y="1830960"/>
                <a:chExt cx="1628640" cy="400680"/>
              </a:xfrm>
            </p:grpSpPr>
            <p:sp>
              <p:nvSpPr>
                <p:cNvPr id="468" name=""/>
                <p:cNvSpPr/>
                <p:nvPr/>
              </p:nvSpPr>
              <p:spPr>
                <a:xfrm>
                  <a:off x="667080" y="1830960"/>
                  <a:ext cx="142452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Column Name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565200" y="1830960"/>
                  <a:ext cx="1628640" cy="40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2194200" y="1830960"/>
                <a:ext cx="2371680" cy="400680"/>
                <a:chOff x="2194200" y="1830960"/>
                <a:chExt cx="2371680" cy="400680"/>
              </a:xfrm>
            </p:grpSpPr>
            <p:sp>
              <p:nvSpPr>
                <p:cNvPr id="471" name=""/>
                <p:cNvSpPr/>
                <p:nvPr/>
              </p:nvSpPr>
              <p:spPr>
                <a:xfrm>
                  <a:off x="2296080" y="1830960"/>
                  <a:ext cx="216828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Description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2" name=""/>
                <p:cNvSpPr/>
                <p:nvPr/>
              </p:nvSpPr>
              <p:spPr>
                <a:xfrm>
                  <a:off x="2194200" y="1830960"/>
                  <a:ext cx="2371680" cy="40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3" name=""/>
              <p:cNvGrpSpPr/>
              <p:nvPr/>
            </p:nvGrpSpPr>
            <p:grpSpPr>
              <a:xfrm>
                <a:off x="565200" y="2231640"/>
                <a:ext cx="1628640" cy="400680"/>
                <a:chOff x="565200" y="2231640"/>
                <a:chExt cx="1628640" cy="400680"/>
              </a:xfrm>
            </p:grpSpPr>
            <p:sp>
              <p:nvSpPr>
                <p:cNvPr id="474" name=""/>
                <p:cNvSpPr/>
                <p:nvPr/>
              </p:nvSpPr>
              <p:spPr>
                <a:xfrm>
                  <a:off x="667080" y="2231640"/>
                  <a:ext cx="142452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History_ID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5" name=""/>
                <p:cNvSpPr/>
                <p:nvPr/>
              </p:nvSpPr>
              <p:spPr>
                <a:xfrm>
                  <a:off x="565200" y="2231640"/>
                  <a:ext cx="1628640" cy="40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6" name=""/>
              <p:cNvGrpSpPr/>
              <p:nvPr/>
            </p:nvGrpSpPr>
            <p:grpSpPr>
              <a:xfrm>
                <a:off x="2194200" y="2231640"/>
                <a:ext cx="2371680" cy="400680"/>
                <a:chOff x="2194200" y="2231640"/>
                <a:chExt cx="2371680" cy="400680"/>
              </a:xfrm>
            </p:grpSpPr>
            <p:sp>
              <p:nvSpPr>
                <p:cNvPr id="477" name=""/>
                <p:cNvSpPr/>
                <p:nvPr/>
              </p:nvSpPr>
              <p:spPr>
                <a:xfrm>
                  <a:off x="2296080" y="2231640"/>
                  <a:ext cx="216828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Record Number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2194200" y="2231640"/>
                  <a:ext cx="2371680" cy="40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565200" y="2632680"/>
                <a:ext cx="1628640" cy="400680"/>
                <a:chOff x="565200" y="2632680"/>
                <a:chExt cx="1628640" cy="40068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667080" y="2632680"/>
                  <a:ext cx="142452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Concept_Code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1" name=""/>
                <p:cNvSpPr/>
                <p:nvPr/>
              </p:nvSpPr>
              <p:spPr>
                <a:xfrm>
                  <a:off x="565200" y="2632680"/>
                  <a:ext cx="1628640" cy="40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2194200" y="2632680"/>
                <a:ext cx="2371680" cy="400680"/>
                <a:chOff x="2194200" y="2632680"/>
                <a:chExt cx="2371680" cy="400680"/>
              </a:xfrm>
            </p:grpSpPr>
            <p:sp>
              <p:nvSpPr>
                <p:cNvPr id="483" name=""/>
                <p:cNvSpPr/>
                <p:nvPr/>
              </p:nvSpPr>
              <p:spPr>
                <a:xfrm>
                  <a:off x="2296080" y="2632680"/>
                  <a:ext cx="216828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Concept Code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4" name=""/>
                <p:cNvSpPr/>
                <p:nvPr/>
              </p:nvSpPr>
              <p:spPr>
                <a:xfrm>
                  <a:off x="2194200" y="2632680"/>
                  <a:ext cx="2371680" cy="40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565200" y="3033360"/>
                <a:ext cx="1628640" cy="400680"/>
                <a:chOff x="565200" y="3033360"/>
                <a:chExt cx="1628640" cy="400680"/>
              </a:xfrm>
            </p:grpSpPr>
            <p:sp>
              <p:nvSpPr>
                <p:cNvPr id="486" name=""/>
                <p:cNvSpPr/>
                <p:nvPr/>
              </p:nvSpPr>
              <p:spPr>
                <a:xfrm>
                  <a:off x="667080" y="3033360"/>
                  <a:ext cx="142452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Concept_ Name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7" name=""/>
                <p:cNvSpPr/>
                <p:nvPr/>
              </p:nvSpPr>
              <p:spPr>
                <a:xfrm>
                  <a:off x="565200" y="3033360"/>
                  <a:ext cx="1628640" cy="40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8" name=""/>
              <p:cNvGrpSpPr/>
              <p:nvPr/>
            </p:nvGrpSpPr>
            <p:grpSpPr>
              <a:xfrm>
                <a:off x="2194200" y="3033360"/>
                <a:ext cx="2371680" cy="400680"/>
                <a:chOff x="2194200" y="3033360"/>
                <a:chExt cx="2371680" cy="400680"/>
              </a:xfrm>
            </p:grpSpPr>
            <p:sp>
              <p:nvSpPr>
                <p:cNvPr id="489" name=""/>
                <p:cNvSpPr/>
                <p:nvPr/>
              </p:nvSpPr>
              <p:spPr>
                <a:xfrm>
                  <a:off x="2296080" y="3033360"/>
                  <a:ext cx="216828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Preferred Name of Concept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0" name=""/>
                <p:cNvSpPr/>
                <p:nvPr/>
              </p:nvSpPr>
              <p:spPr>
                <a:xfrm>
                  <a:off x="2194200" y="3033360"/>
                  <a:ext cx="2371680" cy="40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1" name=""/>
              <p:cNvGrpSpPr/>
              <p:nvPr/>
            </p:nvGrpSpPr>
            <p:grpSpPr>
              <a:xfrm>
                <a:off x="565200" y="3434400"/>
                <a:ext cx="1628640" cy="400680"/>
                <a:chOff x="565200" y="3434400"/>
                <a:chExt cx="1628640" cy="400680"/>
              </a:xfrm>
            </p:grpSpPr>
            <p:sp>
              <p:nvSpPr>
                <p:cNvPr id="492" name=""/>
                <p:cNvSpPr/>
                <p:nvPr/>
              </p:nvSpPr>
              <p:spPr>
                <a:xfrm>
                  <a:off x="667080" y="3434400"/>
                  <a:ext cx="142452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Action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565200" y="3434400"/>
                  <a:ext cx="1628640" cy="40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4" name=""/>
              <p:cNvGrpSpPr/>
              <p:nvPr/>
            </p:nvGrpSpPr>
            <p:grpSpPr>
              <a:xfrm>
                <a:off x="2194200" y="3434400"/>
                <a:ext cx="2371680" cy="400680"/>
                <a:chOff x="2194200" y="3434400"/>
                <a:chExt cx="2371680" cy="400680"/>
              </a:xfrm>
            </p:grpSpPr>
            <p:sp>
              <p:nvSpPr>
                <p:cNvPr id="495" name=""/>
                <p:cNvSpPr/>
                <p:nvPr/>
              </p:nvSpPr>
              <p:spPr>
                <a:xfrm>
                  <a:off x="2296080" y="3434400"/>
                  <a:ext cx="216828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Edit Action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194200" y="3434400"/>
                  <a:ext cx="2371680" cy="40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97" name=""/>
              <p:cNvGrpSpPr/>
              <p:nvPr/>
            </p:nvGrpSpPr>
            <p:grpSpPr>
              <a:xfrm>
                <a:off x="565200" y="3835440"/>
                <a:ext cx="1628640" cy="400680"/>
                <a:chOff x="565200" y="3835440"/>
                <a:chExt cx="1628640" cy="400680"/>
              </a:xfrm>
            </p:grpSpPr>
            <p:sp>
              <p:nvSpPr>
                <p:cNvPr id="498" name=""/>
                <p:cNvSpPr/>
                <p:nvPr/>
              </p:nvSpPr>
              <p:spPr>
                <a:xfrm>
                  <a:off x="667080" y="3835440"/>
                  <a:ext cx="142452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Reference_Code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565200" y="3835440"/>
                  <a:ext cx="1628640" cy="40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0" name=""/>
              <p:cNvGrpSpPr/>
              <p:nvPr/>
            </p:nvGrpSpPr>
            <p:grpSpPr>
              <a:xfrm>
                <a:off x="2194200" y="3835440"/>
                <a:ext cx="2371680" cy="400680"/>
                <a:chOff x="2194200" y="3835440"/>
                <a:chExt cx="2371680" cy="400680"/>
              </a:xfrm>
            </p:grpSpPr>
            <p:sp>
              <p:nvSpPr>
                <p:cNvPr id="501" name=""/>
                <p:cNvSpPr/>
                <p:nvPr/>
              </p:nvSpPr>
              <p:spPr>
                <a:xfrm>
                  <a:off x="2296080" y="3835440"/>
                  <a:ext cx="216828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Referenced Concept Code 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"/>
                <p:cNvSpPr/>
                <p:nvPr/>
              </p:nvSpPr>
              <p:spPr>
                <a:xfrm>
                  <a:off x="2194200" y="3835440"/>
                  <a:ext cx="2371680" cy="40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3" name=""/>
              <p:cNvGrpSpPr/>
              <p:nvPr/>
            </p:nvGrpSpPr>
            <p:grpSpPr>
              <a:xfrm>
                <a:off x="565200" y="4236120"/>
                <a:ext cx="1628640" cy="400680"/>
                <a:chOff x="565200" y="4236120"/>
                <a:chExt cx="1628640" cy="400680"/>
              </a:xfrm>
            </p:grpSpPr>
            <p:sp>
              <p:nvSpPr>
                <p:cNvPr id="504" name=""/>
                <p:cNvSpPr/>
                <p:nvPr/>
              </p:nvSpPr>
              <p:spPr>
                <a:xfrm>
                  <a:off x="667080" y="4236120"/>
                  <a:ext cx="142452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Edit_Date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565200" y="4236120"/>
                  <a:ext cx="1628640" cy="40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6" name=""/>
              <p:cNvGrpSpPr/>
              <p:nvPr/>
            </p:nvGrpSpPr>
            <p:grpSpPr>
              <a:xfrm>
                <a:off x="2194200" y="4236120"/>
                <a:ext cx="2371680" cy="400680"/>
                <a:chOff x="2194200" y="4236120"/>
                <a:chExt cx="2371680" cy="400680"/>
              </a:xfrm>
            </p:grpSpPr>
            <p:sp>
              <p:nvSpPr>
                <p:cNvPr id="507" name=""/>
                <p:cNvSpPr/>
                <p:nvPr/>
              </p:nvSpPr>
              <p:spPr>
                <a:xfrm>
                  <a:off x="2296080" y="4236120"/>
                  <a:ext cx="2168280" cy="40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Timestamp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194200" y="4236120"/>
                  <a:ext cx="2371680" cy="400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565200" y="4637160"/>
                <a:ext cx="1628640" cy="485280"/>
                <a:chOff x="565200" y="4637160"/>
                <a:chExt cx="1628640" cy="48528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667080" y="4637160"/>
                  <a:ext cx="1424520" cy="48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Edit_Name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565200" y="4637160"/>
                  <a:ext cx="1628640" cy="48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2194200" y="4637160"/>
                <a:ext cx="2371680" cy="485280"/>
                <a:chOff x="2194200" y="4637160"/>
                <a:chExt cx="2371680" cy="48528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2296080" y="4637160"/>
                  <a:ext cx="2168280" cy="48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Name of edited NCI Thesaurus™ schema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2194200" y="4637160"/>
                  <a:ext cx="2371680" cy="48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5" name=""/>
              <p:cNvGrpSpPr/>
              <p:nvPr/>
            </p:nvGrpSpPr>
            <p:grpSpPr>
              <a:xfrm>
                <a:off x="565200" y="5122440"/>
                <a:ext cx="1628640" cy="485280"/>
                <a:chOff x="565200" y="5122440"/>
                <a:chExt cx="1628640" cy="485280"/>
              </a:xfrm>
            </p:grpSpPr>
            <p:sp>
              <p:nvSpPr>
                <p:cNvPr id="516" name=""/>
                <p:cNvSpPr/>
                <p:nvPr/>
              </p:nvSpPr>
              <p:spPr>
                <a:xfrm>
                  <a:off x="667080" y="5122440"/>
                  <a:ext cx="1424520" cy="48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Host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565200" y="5122440"/>
                  <a:ext cx="1628640" cy="48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8" name=""/>
              <p:cNvGrpSpPr/>
              <p:nvPr/>
            </p:nvGrpSpPr>
            <p:grpSpPr>
              <a:xfrm>
                <a:off x="2194200" y="5122440"/>
                <a:ext cx="2371680" cy="485280"/>
                <a:chOff x="2194200" y="5122440"/>
                <a:chExt cx="2371680" cy="48528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2296080" y="5122440"/>
                  <a:ext cx="2168280" cy="48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IP address of editor's workstation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2194200" y="5122440"/>
                  <a:ext cx="2371680" cy="48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565200" y="5607720"/>
                <a:ext cx="1628640" cy="485280"/>
                <a:chOff x="565200" y="5607720"/>
                <a:chExt cx="1628640" cy="48528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667080" y="5607720"/>
                  <a:ext cx="1424520" cy="48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Published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565200" y="5607720"/>
                  <a:ext cx="1628640" cy="48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2194200" y="5607720"/>
                <a:ext cx="2371680" cy="485280"/>
                <a:chOff x="2194200" y="5607720"/>
                <a:chExt cx="2371680" cy="48528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2296080" y="5607720"/>
                  <a:ext cx="2168280" cy="485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Publication state of history entry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2194200" y="5607720"/>
                  <a:ext cx="2371680" cy="485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27" name=""/>
            <p:cNvSpPr/>
            <p:nvPr/>
          </p:nvSpPr>
          <p:spPr>
            <a:xfrm>
              <a:off x="560520" y="1828800"/>
              <a:ext cx="4011120" cy="426708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28" name=""/>
          <p:cNvSpPr/>
          <p:nvPr/>
        </p:nvSpPr>
        <p:spPr>
          <a:xfrm>
            <a:off x="3659400" y="1295280"/>
            <a:ext cx="7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TD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724280" y="2438280"/>
            <a:ext cx="4267080" cy="2819520"/>
            <a:chOff x="4724280" y="2438280"/>
            <a:chExt cx="4267080" cy="2819520"/>
          </a:xfrm>
        </p:grpSpPr>
        <p:grpSp>
          <p:nvGrpSpPr>
            <p:cNvPr id="530" name=""/>
            <p:cNvGrpSpPr/>
            <p:nvPr/>
          </p:nvGrpSpPr>
          <p:grpSpPr>
            <a:xfrm>
              <a:off x="4729320" y="2440800"/>
              <a:ext cx="4255920" cy="2814480"/>
              <a:chOff x="4729320" y="2440800"/>
              <a:chExt cx="4255920" cy="2814480"/>
            </a:xfrm>
          </p:grpSpPr>
          <p:grpSp>
            <p:nvGrpSpPr>
              <p:cNvPr id="531" name=""/>
              <p:cNvGrpSpPr/>
              <p:nvPr/>
            </p:nvGrpSpPr>
            <p:grpSpPr>
              <a:xfrm>
                <a:off x="4729320" y="2440800"/>
                <a:ext cx="1611000" cy="453240"/>
                <a:chOff x="4729320" y="2440800"/>
                <a:chExt cx="1611000" cy="453240"/>
              </a:xfrm>
            </p:grpSpPr>
            <p:sp>
              <p:nvSpPr>
                <p:cNvPr id="532" name=""/>
                <p:cNvSpPr/>
                <p:nvPr/>
              </p:nvSpPr>
              <p:spPr>
                <a:xfrm>
                  <a:off x="4839120" y="2440800"/>
                  <a:ext cx="1391040" cy="45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Column Name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4729320" y="2440800"/>
                  <a:ext cx="1611000" cy="45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4" name=""/>
              <p:cNvGrpSpPr/>
              <p:nvPr/>
            </p:nvGrpSpPr>
            <p:grpSpPr>
              <a:xfrm>
                <a:off x="6340680" y="2440800"/>
                <a:ext cx="2644560" cy="453240"/>
                <a:chOff x="6340680" y="2440800"/>
                <a:chExt cx="2644560" cy="45324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6449760" y="2440800"/>
                  <a:ext cx="2424960" cy="45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Description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6340680" y="2440800"/>
                  <a:ext cx="2644560" cy="45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7" name=""/>
              <p:cNvGrpSpPr/>
              <p:nvPr/>
            </p:nvGrpSpPr>
            <p:grpSpPr>
              <a:xfrm>
                <a:off x="4729320" y="2894040"/>
                <a:ext cx="1611000" cy="452880"/>
                <a:chOff x="4729320" y="2894040"/>
                <a:chExt cx="1611000" cy="452880"/>
              </a:xfrm>
            </p:grpSpPr>
            <p:sp>
              <p:nvSpPr>
                <p:cNvPr id="538" name=""/>
                <p:cNvSpPr/>
                <p:nvPr/>
              </p:nvSpPr>
              <p:spPr>
                <a:xfrm>
                  <a:off x="4839120" y="2894040"/>
                  <a:ext cx="139104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History_ID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4729320" y="2894040"/>
                  <a:ext cx="1611000" cy="452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0" name=""/>
              <p:cNvGrpSpPr/>
              <p:nvPr/>
            </p:nvGrpSpPr>
            <p:grpSpPr>
              <a:xfrm>
                <a:off x="6340680" y="2894040"/>
                <a:ext cx="2644560" cy="452880"/>
                <a:chOff x="6340680" y="2894040"/>
                <a:chExt cx="2644560" cy="45288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6449760" y="2894040"/>
                  <a:ext cx="242496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Record Number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6340680" y="2894040"/>
                  <a:ext cx="2644560" cy="452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3" name=""/>
              <p:cNvGrpSpPr/>
              <p:nvPr/>
            </p:nvGrpSpPr>
            <p:grpSpPr>
              <a:xfrm>
                <a:off x="4729320" y="3346920"/>
                <a:ext cx="1611000" cy="453240"/>
                <a:chOff x="4729320" y="3346920"/>
                <a:chExt cx="1611000" cy="453240"/>
              </a:xfrm>
            </p:grpSpPr>
            <p:sp>
              <p:nvSpPr>
                <p:cNvPr id="544" name=""/>
                <p:cNvSpPr/>
                <p:nvPr/>
              </p:nvSpPr>
              <p:spPr>
                <a:xfrm>
                  <a:off x="4839120" y="3346920"/>
                  <a:ext cx="1391040" cy="45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Concept_Code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4729320" y="3346920"/>
                  <a:ext cx="1611000" cy="45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6" name=""/>
              <p:cNvGrpSpPr/>
              <p:nvPr/>
            </p:nvGrpSpPr>
            <p:grpSpPr>
              <a:xfrm>
                <a:off x="6340680" y="3346920"/>
                <a:ext cx="2644560" cy="453240"/>
                <a:chOff x="6340680" y="3346920"/>
                <a:chExt cx="2644560" cy="453240"/>
              </a:xfrm>
            </p:grpSpPr>
            <p:sp>
              <p:nvSpPr>
                <p:cNvPr id="547" name=""/>
                <p:cNvSpPr/>
                <p:nvPr/>
              </p:nvSpPr>
              <p:spPr>
                <a:xfrm>
                  <a:off x="6449760" y="3346920"/>
                  <a:ext cx="2424960" cy="45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Concept Code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340680" y="3346920"/>
                  <a:ext cx="2644560" cy="45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9" name=""/>
              <p:cNvGrpSpPr/>
              <p:nvPr/>
            </p:nvGrpSpPr>
            <p:grpSpPr>
              <a:xfrm>
                <a:off x="4729320" y="3800160"/>
                <a:ext cx="1611000" cy="452880"/>
                <a:chOff x="4729320" y="3800160"/>
                <a:chExt cx="1611000" cy="452880"/>
              </a:xfrm>
            </p:grpSpPr>
            <p:sp>
              <p:nvSpPr>
                <p:cNvPr id="550" name=""/>
                <p:cNvSpPr/>
                <p:nvPr/>
              </p:nvSpPr>
              <p:spPr>
                <a:xfrm>
                  <a:off x="4839120" y="3800160"/>
                  <a:ext cx="139104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Action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4729320" y="3800160"/>
                  <a:ext cx="1611000" cy="452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2" name=""/>
              <p:cNvGrpSpPr/>
              <p:nvPr/>
            </p:nvGrpSpPr>
            <p:grpSpPr>
              <a:xfrm>
                <a:off x="6340680" y="3800160"/>
                <a:ext cx="2644560" cy="452880"/>
                <a:chOff x="6340680" y="3800160"/>
                <a:chExt cx="2644560" cy="452880"/>
              </a:xfrm>
            </p:grpSpPr>
            <p:sp>
              <p:nvSpPr>
                <p:cNvPr id="553" name=""/>
                <p:cNvSpPr/>
                <p:nvPr/>
              </p:nvSpPr>
              <p:spPr>
                <a:xfrm>
                  <a:off x="6449760" y="3800160"/>
                  <a:ext cx="2424960" cy="45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Edit Action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6340680" y="3800160"/>
                  <a:ext cx="2644560" cy="452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5" name=""/>
              <p:cNvGrpSpPr/>
              <p:nvPr/>
            </p:nvGrpSpPr>
            <p:grpSpPr>
              <a:xfrm>
                <a:off x="4729320" y="4253040"/>
                <a:ext cx="1611000" cy="548640"/>
                <a:chOff x="4729320" y="4253040"/>
                <a:chExt cx="1611000" cy="548640"/>
              </a:xfrm>
            </p:grpSpPr>
            <p:sp>
              <p:nvSpPr>
                <p:cNvPr id="556" name=""/>
                <p:cNvSpPr/>
                <p:nvPr/>
              </p:nvSpPr>
              <p:spPr>
                <a:xfrm>
                  <a:off x="4839120" y="4253040"/>
                  <a:ext cx="1391040" cy="5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Baseline_Date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7" name=""/>
                <p:cNvSpPr/>
                <p:nvPr/>
              </p:nvSpPr>
              <p:spPr>
                <a:xfrm>
                  <a:off x="4729320" y="4253040"/>
                  <a:ext cx="1611000" cy="54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8" name=""/>
              <p:cNvGrpSpPr/>
              <p:nvPr/>
            </p:nvGrpSpPr>
            <p:grpSpPr>
              <a:xfrm>
                <a:off x="6340680" y="4253040"/>
                <a:ext cx="2644560" cy="548640"/>
                <a:chOff x="6340680" y="4253040"/>
                <a:chExt cx="2644560" cy="548640"/>
              </a:xfrm>
            </p:grpSpPr>
            <p:sp>
              <p:nvSpPr>
                <p:cNvPr id="559" name=""/>
                <p:cNvSpPr/>
                <p:nvPr/>
              </p:nvSpPr>
              <p:spPr>
                <a:xfrm>
                  <a:off x="6449760" y="4253040"/>
                  <a:ext cx="2424960" cy="548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Date of NCI Thesaurus™ Baseline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0" name=""/>
                <p:cNvSpPr/>
                <p:nvPr/>
              </p:nvSpPr>
              <p:spPr>
                <a:xfrm>
                  <a:off x="6340680" y="4253040"/>
                  <a:ext cx="2644560" cy="548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1" name=""/>
              <p:cNvGrpSpPr/>
              <p:nvPr/>
            </p:nvGrpSpPr>
            <p:grpSpPr>
              <a:xfrm>
                <a:off x="4729320" y="4802040"/>
                <a:ext cx="1611000" cy="453240"/>
                <a:chOff x="4729320" y="4802040"/>
                <a:chExt cx="1611000" cy="453240"/>
              </a:xfrm>
            </p:grpSpPr>
            <p:sp>
              <p:nvSpPr>
                <p:cNvPr id="562" name=""/>
                <p:cNvSpPr/>
                <p:nvPr/>
              </p:nvSpPr>
              <p:spPr>
                <a:xfrm>
                  <a:off x="4839120" y="4802040"/>
                  <a:ext cx="1391040" cy="45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Reference_Code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3" name=""/>
                <p:cNvSpPr/>
                <p:nvPr/>
              </p:nvSpPr>
              <p:spPr>
                <a:xfrm>
                  <a:off x="4729320" y="4802040"/>
                  <a:ext cx="1611000" cy="45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4" name=""/>
              <p:cNvGrpSpPr/>
              <p:nvPr/>
            </p:nvGrpSpPr>
            <p:grpSpPr>
              <a:xfrm>
                <a:off x="6340680" y="4802040"/>
                <a:ext cx="2644560" cy="453240"/>
                <a:chOff x="6340680" y="4802040"/>
                <a:chExt cx="2644560" cy="453240"/>
              </a:xfrm>
            </p:grpSpPr>
            <p:sp>
              <p:nvSpPr>
                <p:cNvPr id="565" name=""/>
                <p:cNvSpPr/>
                <p:nvPr/>
              </p:nvSpPr>
              <p:spPr>
                <a:xfrm>
                  <a:off x="6449760" y="4802040"/>
                  <a:ext cx="2424960" cy="45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40458c"/>
                      </a:solidFill>
                      <a:latin typeface="Times New Roman"/>
                      <a:ea typeface="Times New Roman"/>
                    </a:rPr>
                    <a:t>Referenced Concept Code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66" name=""/>
                <p:cNvSpPr/>
                <p:nvPr/>
              </p:nvSpPr>
              <p:spPr>
                <a:xfrm>
                  <a:off x="6340680" y="4802040"/>
                  <a:ext cx="2644560" cy="453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7" name=""/>
            <p:cNvSpPr/>
            <p:nvPr/>
          </p:nvSpPr>
          <p:spPr>
            <a:xfrm>
              <a:off x="4724280" y="2438280"/>
              <a:ext cx="4267080" cy="2819520"/>
            </a:xfrm>
            <a:prstGeom prst="rect">
              <a:avLst/>
            </a:prstGeom>
            <a:noFill/>
            <a:ln w="648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7927200" y="1828800"/>
            <a:ext cx="75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imes New Roman"/>
              </a:rPr>
              <a:t>DT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9" name="">
            <a:hlinkClick r:id="rId1" action="ppaction://hlinksldjump"/>
          </p:cNvPr>
          <p:cNvSpPr/>
          <p:nvPr/>
        </p:nvSpPr>
        <p:spPr>
          <a:xfrm>
            <a:off x="8030520" y="152280"/>
            <a:ext cx="75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TOC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812880" y="914400"/>
            <a:ext cx="7518240" cy="5462640"/>
          </a:xfrm>
          <a:prstGeom prst="rect">
            <a:avLst/>
          </a:prstGeom>
          <a:ln w="0">
            <a:noFill/>
          </a:ln>
        </p:spPr>
      </p:pic>
      <p:sp>
        <p:nvSpPr>
          <p:cNvPr id="571" name=""/>
          <p:cNvSpPr/>
          <p:nvPr/>
        </p:nvSpPr>
        <p:spPr>
          <a:xfrm>
            <a:off x="275040" y="235080"/>
            <a:ext cx="789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Future: Description Logic in Protégé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2" name=""/>
          <p:cNvGraphicFramePr/>
          <p:nvPr/>
        </p:nvGraphicFramePr>
        <p:xfrm>
          <a:off x="838080" y="1295280"/>
          <a:ext cx="7620120" cy="4367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295280"/>
                    <a:ext cx="7620120" cy="43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4" name=""/>
          <p:cNvSpPr/>
          <p:nvPr/>
        </p:nvSpPr>
        <p:spPr>
          <a:xfrm>
            <a:off x="2897280" y="114480"/>
            <a:ext cx="58100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660066"/>
                </a:solidFill>
                <a:latin typeface="Arial"/>
              </a:rPr>
              <a:t>Roles in the NCI Thesaurus</a:t>
            </a:r>
            <a:endParaRPr b="0" lang="en-US" sz="3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5" name=""/>
          <p:cNvGraphicFramePr/>
          <p:nvPr/>
        </p:nvGraphicFramePr>
        <p:xfrm>
          <a:off x="1143000" y="1295280"/>
          <a:ext cx="7620120" cy="450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1295280"/>
                    <a:ext cx="7620120" cy="450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7" name=""/>
          <p:cNvSpPr/>
          <p:nvPr/>
        </p:nvSpPr>
        <p:spPr>
          <a:xfrm>
            <a:off x="2895480" y="0"/>
            <a:ext cx="62485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Roles in the Disease Domain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124080" y="380880"/>
            <a:ext cx="5334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caBIO Architecture</a:t>
            </a:r>
            <a:r>
              <a:rPr b="0" i="1" lang="en-US" sz="36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800600" y="4343400"/>
            <a:ext cx="1522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914400" y="1600200"/>
            <a:ext cx="7924320" cy="4429800"/>
            <a:chOff x="914400" y="1600200"/>
            <a:chExt cx="7924320" cy="4429800"/>
          </a:xfrm>
        </p:grpSpPr>
        <p:sp>
          <p:nvSpPr>
            <p:cNvPr id="169" name=""/>
            <p:cNvSpPr/>
            <p:nvPr/>
          </p:nvSpPr>
          <p:spPr>
            <a:xfrm>
              <a:off x="5159880" y="4063680"/>
              <a:ext cx="2267280" cy="1933560"/>
            </a:xfrm>
            <a:prstGeom prst="rect">
              <a:avLst/>
            </a:prstGeom>
            <a:noFill/>
            <a:ln w="9360">
              <a:solidFill>
                <a:srgbClr val="40458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014480" y="1600200"/>
              <a:ext cx="1148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Client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50160" y="1814040"/>
              <a:ext cx="0" cy="40629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890960" y="1814040"/>
              <a:ext cx="0" cy="40629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90680" y="1871640"/>
              <a:ext cx="0" cy="4062960"/>
            </a:xfrm>
            <a:prstGeom prst="line">
              <a:avLst/>
            </a:prstGeom>
            <a:ln w="2844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665440" y="1600200"/>
              <a:ext cx="226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Presentation Laye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465160" y="1600200"/>
              <a:ext cx="162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Object Layer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688880" y="1641600"/>
              <a:ext cx="114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40458c"/>
                  </a:solidFill>
                  <a:latin typeface="Arial"/>
                </a:rPr>
                <a:t>Data Sources</a:t>
              </a:r>
              <a:endParaRPr b="0" lang="en-US" sz="18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942840" y="2134800"/>
              <a:ext cx="965880" cy="73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942840" y="3053880"/>
              <a:ext cx="933120" cy="27648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11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1166d"/>
                  </a:solidFill>
                  <a:latin typeface="Times New Roman"/>
                </a:rPr>
                <a:t>Browser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42840" y="3667320"/>
              <a:ext cx="933120" cy="45900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11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1166d"/>
                  </a:solidFill>
                  <a:latin typeface="Times New Roman"/>
                </a:rPr>
                <a:t>Other App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62880" y="2740680"/>
              <a:ext cx="645840" cy="64152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1166d"/>
                  </a:solidFill>
                  <a:latin typeface="Times New Roman"/>
                </a:rPr>
                <a:t>HTML/HTT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162880" y="3524760"/>
              <a:ext cx="645840" cy="45900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1166d"/>
                  </a:solidFill>
                  <a:latin typeface="Times New Roman"/>
                </a:rPr>
                <a:t>XML/HTT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19600" y="4237560"/>
              <a:ext cx="933120" cy="2764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1166d"/>
                  </a:solidFill>
                  <a:latin typeface="Times New Roman"/>
                </a:rPr>
                <a:t>SOA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1875960" y="2954520"/>
              <a:ext cx="286560" cy="2138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75960" y="3168360"/>
              <a:ext cx="286560" cy="4989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75960" y="3818520"/>
              <a:ext cx="2865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942840" y="5753520"/>
              <a:ext cx="933120" cy="27648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11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1166d"/>
                  </a:solidFill>
                  <a:latin typeface="Times New Roman"/>
                </a:rPr>
                <a:t>Java App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94920" y="2027880"/>
              <a:ext cx="1365120" cy="3333600"/>
            </a:xfrm>
            <a:prstGeom prst="rect">
              <a:avLst/>
            </a:prstGeom>
            <a:solidFill>
              <a:srgbClr val="66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Times New Roman"/>
                </a:rPr>
                <a:t>Web Server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68000" y="2313000"/>
              <a:ext cx="1148040" cy="1568160"/>
            </a:xfrm>
            <a:custGeom>
              <a:avLst/>
              <a:gdLst>
                <a:gd name="textAreaLeft" fmla="*/ 55800 w 1148040"/>
                <a:gd name="textAreaRight" fmla="*/ 1092240 w 1148040"/>
                <a:gd name="textAreaTop" fmla="*/ 55800 h 1568160"/>
                <a:gd name="textAreaBottom" fmla="*/ 1512360 h 1568160"/>
              </a:gdLst>
              <a:ahLst/>
              <a:rect l="textAreaLeft" t="textAreaTop" r="textAreaRight" b="textAreaBottom"/>
              <a:pathLst>
                <a:path w="21600" h="29502">
                  <a:moveTo>
                    <a:pt x="3600" y="0"/>
                  </a:moveTo>
                  <a:arcTo wR="3600" hR="3600" stAng="16200000" swAng="-5400000"/>
                  <a:lnTo>
                    <a:pt x="0" y="25902"/>
                  </a:lnTo>
                  <a:arcTo wR="3600" hR="3600" stAng="10800000" swAng="-5400000"/>
                  <a:lnTo>
                    <a:pt x="18000" y="2950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7cfff"/>
            </a:solidFill>
            <a:ln w="9360">
              <a:solidFill>
                <a:srgbClr val="011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1166d"/>
                  </a:solidFill>
                  <a:latin typeface="Times New Roman"/>
                </a:rPr>
                <a:t>Servlet Container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311640" y="2669400"/>
              <a:ext cx="861120" cy="28512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11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Times New Roman"/>
                </a:rPr>
                <a:t>JSP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311640" y="3025800"/>
              <a:ext cx="861120" cy="28476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11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Times New Roman"/>
                </a:rPr>
                <a:t>Servlet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168000" y="4023720"/>
              <a:ext cx="1148040" cy="997560"/>
            </a:xfrm>
            <a:prstGeom prst="roundRect">
              <a:avLst>
                <a:gd name="adj" fmla="val 16667"/>
              </a:avLst>
            </a:prstGeom>
            <a:solidFill>
              <a:srgbClr val="b7cfff"/>
            </a:solidFill>
            <a:ln w="9360">
              <a:solidFill>
                <a:srgbClr val="011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1166d"/>
                  </a:solidFill>
                  <a:latin typeface="Times New Roman"/>
                </a:rPr>
                <a:t>UI Bean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11640" y="4322160"/>
              <a:ext cx="861120" cy="28512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11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Times New Roman"/>
                </a:rPr>
                <a:t>XML Builder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11640" y="4665240"/>
              <a:ext cx="861120" cy="28512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11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Times New Roman"/>
                </a:rPr>
                <a:t>XSLT Engin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311640" y="3382200"/>
              <a:ext cx="861120" cy="285120"/>
            </a:xfrm>
            <a:prstGeom prst="roundRect">
              <a:avLst>
                <a:gd name="adj" fmla="val 16667"/>
              </a:avLst>
            </a:prstGeom>
            <a:solidFill>
              <a:srgbClr val="6699ff"/>
            </a:solidFill>
            <a:ln w="9360">
              <a:solidFill>
                <a:srgbClr val="011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66"/>
                  </a:solidFill>
                  <a:latin typeface="Times New Roman"/>
                </a:rPr>
                <a:t>SOAP Engine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37440" y="5333400"/>
              <a:ext cx="502200" cy="427680"/>
            </a:xfrm>
            <a:prstGeom prst="flowChartDocument">
              <a:avLst/>
            </a:prstGeom>
            <a:solidFill>
              <a:srgbClr val="dddddd"/>
            </a:solidFill>
            <a:ln w="9360">
              <a:solidFill>
                <a:srgbClr val="011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1166d"/>
                  </a:solidFill>
                  <a:latin typeface="Times New Roman"/>
                </a:rPr>
                <a:t>XML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1166d"/>
                  </a:solidFill>
                  <a:latin typeface="Times New Roman"/>
                </a:rPr>
                <a:t>Doc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101120" y="5164200"/>
              <a:ext cx="645840" cy="427680"/>
            </a:xfrm>
            <a:prstGeom prst="flowChartDocument">
              <a:avLst/>
            </a:prstGeom>
            <a:solidFill>
              <a:srgbClr val="dddddd"/>
            </a:solidFill>
            <a:ln w="9360">
              <a:solidFill>
                <a:srgbClr val="011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1166d"/>
                  </a:solidFill>
                  <a:latin typeface="Times New Roman"/>
                </a:rPr>
                <a:t>DTD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814200" y="5449320"/>
              <a:ext cx="861120" cy="427680"/>
            </a:xfrm>
            <a:prstGeom prst="flowChartDocument">
              <a:avLst/>
            </a:prstGeom>
            <a:solidFill>
              <a:srgbClr val="dddddd"/>
            </a:solidFill>
            <a:ln w="9360">
              <a:solidFill>
                <a:srgbClr val="011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1166d"/>
                  </a:solidFill>
                  <a:latin typeface="Times New Roman"/>
                </a:rPr>
                <a:t>XSL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1166d"/>
                  </a:solidFill>
                  <a:latin typeface="Times New Roman"/>
                </a:rPr>
                <a:t>Style Sheet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024000" y="4950360"/>
              <a:ext cx="286920" cy="3560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957840" y="4950360"/>
              <a:ext cx="0" cy="42768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52720" y="4095000"/>
              <a:ext cx="358560" cy="3560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2809080" y="3382200"/>
              <a:ext cx="358920" cy="2851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809080" y="3025800"/>
              <a:ext cx="358920" cy="2847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728880" y="3809880"/>
              <a:ext cx="0" cy="2851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603680" y="3695400"/>
              <a:ext cx="645840" cy="2764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1166d"/>
                  </a:solidFill>
                  <a:latin typeface="Times New Roman"/>
                </a:rPr>
                <a:t>RMI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962600" y="2740680"/>
              <a:ext cx="789840" cy="283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1166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192880" y="4522680"/>
              <a:ext cx="574200" cy="276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11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1166d"/>
                  </a:solidFill>
                  <a:latin typeface="Times New Roman"/>
                </a:rPr>
                <a:t>URL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2880" y="5306760"/>
              <a:ext cx="502560" cy="427680"/>
            </a:xfrm>
            <a:prstGeom prst="flowChartDocument">
              <a:avLst/>
            </a:prstGeom>
            <a:solidFill>
              <a:srgbClr val="dddddd"/>
            </a:solidFill>
            <a:ln w="9360">
              <a:solidFill>
                <a:srgbClr val="011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1166d"/>
                  </a:solidFill>
                  <a:latin typeface="Times New Roman"/>
                </a:rPr>
                <a:t>Flat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1166d"/>
                  </a:solidFill>
                  <a:latin typeface="Times New Roman"/>
                </a:rPr>
                <a:t>File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192880" y="2669400"/>
              <a:ext cx="574200" cy="71280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153753" dir="2700000" blurRad="0" rotWithShape="0">
                <a:srgbClr val="6a6a6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1166d"/>
                  </a:solidFill>
                  <a:latin typeface="Times New Roman"/>
                </a:rPr>
                <a:t>External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1166d"/>
                  </a:solidFill>
                  <a:latin typeface="Times New Roman"/>
                </a:rPr>
                <a:t>Database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240880" y="4436640"/>
              <a:ext cx="932760" cy="276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1166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1166d"/>
                  </a:solidFill>
                  <a:latin typeface="Times New Roman"/>
                </a:rPr>
                <a:t>Gene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266880" y="4427280"/>
              <a:ext cx="1077840" cy="459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1166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1166d"/>
                  </a:solidFill>
                  <a:latin typeface="Times New Roman"/>
                </a:rPr>
                <a:t>Chromosome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301080" y="5070600"/>
              <a:ext cx="1000440" cy="459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1166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1166d"/>
                  </a:solidFill>
                  <a:latin typeface="Times New Roman"/>
                </a:rPr>
                <a:t>Admin Component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54200" y="4757040"/>
              <a:ext cx="933120" cy="276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1166d"/>
                  </a:solidFill>
                  <a:latin typeface="Times New Roman"/>
                </a:rPr>
                <a:t>Tissue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51840" y="5446440"/>
              <a:ext cx="933120" cy="28332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1166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287400" y="4769280"/>
              <a:ext cx="1039320" cy="276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1166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1166d"/>
                  </a:solidFill>
                  <a:latin typeface="Times New Roman"/>
                </a:rPr>
                <a:t>Concept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106240" y="2883240"/>
              <a:ext cx="789480" cy="2836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1166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249880" y="3025800"/>
              <a:ext cx="789480" cy="459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1166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1166d"/>
                  </a:solidFill>
                  <a:latin typeface="Times New Roman"/>
                </a:rPr>
                <a:t>Object Manager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388400" y="3809880"/>
              <a:ext cx="2152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034600" y="3025800"/>
              <a:ext cx="0" cy="641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070680" y="3220200"/>
              <a:ext cx="4305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475400" y="3451680"/>
              <a:ext cx="502200" cy="2764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1166d"/>
                  </a:solidFill>
                  <a:latin typeface="Times New Roman"/>
                </a:rPr>
                <a:t>JDBC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75400" y="4237560"/>
              <a:ext cx="502200" cy="2764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1166d"/>
                  </a:solidFill>
                  <a:latin typeface="Times New Roman"/>
                </a:rPr>
                <a:t>HTT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977600" y="4380120"/>
              <a:ext cx="286920" cy="1425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V="1">
              <a:off x="7905960" y="3310920"/>
              <a:ext cx="286560" cy="14256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75400" y="4978440"/>
              <a:ext cx="502200" cy="2764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1166d"/>
                  </a:solidFill>
                  <a:latin typeface="Times New Roman"/>
                </a:rPr>
                <a:t>FTP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905960" y="5164200"/>
              <a:ext cx="286560" cy="1422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2665440" y="3596040"/>
              <a:ext cx="645840" cy="64152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875960" y="5948280"/>
              <a:ext cx="315828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034600" y="3952440"/>
              <a:ext cx="0" cy="19958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914400" y="4827240"/>
              <a:ext cx="933120" cy="27648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1166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1166d"/>
                  </a:solidFill>
                  <a:latin typeface="Times New Roman"/>
                </a:rPr>
                <a:t>Agent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004480" y="4827240"/>
              <a:ext cx="933120" cy="2764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1166d"/>
                  </a:solidFill>
                  <a:latin typeface="Times New Roman"/>
                </a:rPr>
                <a:t>RDF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833840" y="4944240"/>
              <a:ext cx="22572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2809080" y="3809880"/>
              <a:ext cx="645840" cy="10692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03960" y="3881160"/>
              <a:ext cx="215280" cy="4986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505920" y="3019680"/>
              <a:ext cx="789840" cy="4590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1166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1166d"/>
                  </a:solidFill>
                  <a:latin typeface="Times New Roman"/>
                </a:rPr>
                <a:t>Data Access Object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52760" y="5092920"/>
              <a:ext cx="932760" cy="276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1166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1166d"/>
                  </a:solidFill>
                  <a:latin typeface="Times New Roman"/>
                </a:rPr>
                <a:t>Sequence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278320" y="5419440"/>
              <a:ext cx="932760" cy="276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1166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1166d"/>
                  </a:solidFill>
                  <a:latin typeface="Times New Roman"/>
                </a:rPr>
                <a:t>Disease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333200" y="3220200"/>
              <a:ext cx="358560" cy="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89280" y="5562000"/>
              <a:ext cx="933120" cy="2836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1166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426720" y="5693040"/>
              <a:ext cx="933120" cy="27648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1166d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1166d"/>
                  </a:solidFill>
                  <a:latin typeface="Times New Roman"/>
                </a:rPr>
                <a:t>Other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557680" y="4075560"/>
              <a:ext cx="1431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40458c"/>
                  </a:solidFill>
                  <a:latin typeface="Times New Roman"/>
                </a:rPr>
                <a:t>Domain Objects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623560" y="3471480"/>
              <a:ext cx="0" cy="59220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V="1">
              <a:off x="7977600" y="3310920"/>
              <a:ext cx="215280" cy="2138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192880" y="3952440"/>
              <a:ext cx="574200" cy="42768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153753" dir="2700000" blurRad="0" rotWithShape="0">
                <a:srgbClr val="6a6a6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1166d"/>
                  </a:solidFill>
                  <a:latin typeface="Times New Roman"/>
                </a:rPr>
                <a:t>caDSR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192880" y="3453480"/>
              <a:ext cx="574200" cy="427680"/>
            </a:xfrm>
            <a:prstGeom prst="can">
              <a:avLst>
                <a:gd name="adj" fmla="val 25000"/>
              </a:avLst>
            </a:prstGeom>
            <a:solidFill>
              <a:srgbClr val="b2b2b2"/>
            </a:solidFill>
            <a:ln w="0">
              <a:noFill/>
            </a:ln>
            <a:effectLst>
              <a:outerShdw dist="153753" dir="2700000" blurRad="0" rotWithShape="0">
                <a:srgbClr val="6a6a6a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1166d"/>
                  </a:solidFill>
                  <a:latin typeface="Times New Roman"/>
                </a:rPr>
                <a:t>EVS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V="1">
              <a:off x="7977600" y="4166280"/>
              <a:ext cx="215280" cy="21384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77600" y="3524760"/>
              <a:ext cx="215280" cy="142560"/>
            </a:xfrm>
            <a:prstGeom prst="line">
              <a:avLst/>
            </a:prstGeom>
            <a:ln w="9360">
              <a:solidFill>
                <a:srgbClr val="40458c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pic>
        <p:nvPicPr>
          <p:cNvPr id="247" name="services" descr=""/>
          <p:cNvPicPr/>
          <p:nvPr/>
        </p:nvPicPr>
        <p:blipFill>
          <a:blip r:embed="rId2"/>
          <a:stretch/>
        </p:blipFill>
        <p:spPr>
          <a:xfrm>
            <a:off x="0" y="0"/>
            <a:ext cx="2354400" cy="82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8" name=""/>
          <p:cNvGraphicFramePr/>
          <p:nvPr/>
        </p:nvGraphicFramePr>
        <p:xfrm>
          <a:off x="6589800" y="3354480"/>
          <a:ext cx="574560" cy="119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9800" y="3354480"/>
                    <a:ext cx="574560" cy="11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50" name="" descr=""/>
          <p:cNvPicPr/>
          <p:nvPr/>
        </p:nvPicPr>
        <p:blipFill>
          <a:blip r:embed="rId3"/>
          <a:stretch/>
        </p:blipFill>
        <p:spPr>
          <a:xfrm>
            <a:off x="7254720" y="3457440"/>
            <a:ext cx="1281240" cy="951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"/>
          <p:cNvGraphicFramePr/>
          <p:nvPr/>
        </p:nvGraphicFramePr>
        <p:xfrm>
          <a:off x="6665760" y="5043600"/>
          <a:ext cx="574920" cy="1191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665760" y="5043600"/>
                    <a:ext cx="574920" cy="11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3" name=""/>
          <p:cNvGraphicFramePr/>
          <p:nvPr/>
        </p:nvGraphicFramePr>
        <p:xfrm>
          <a:off x="7302600" y="5146560"/>
          <a:ext cx="1280880" cy="951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302600" y="5146560"/>
                    <a:ext cx="1280880" cy="9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5" name=""/>
          <p:cNvGraphicFramePr/>
          <p:nvPr/>
        </p:nvGraphicFramePr>
        <p:xfrm>
          <a:off x="2182680" y="3430440"/>
          <a:ext cx="574920" cy="11923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182680" y="3430440"/>
                    <a:ext cx="574920" cy="11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7" name=""/>
          <p:cNvGraphicFramePr/>
          <p:nvPr/>
        </p:nvGraphicFramePr>
        <p:xfrm>
          <a:off x="774720" y="3584520"/>
          <a:ext cx="1281240" cy="95112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774720" y="3584520"/>
                    <a:ext cx="1281240" cy="9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9" name=""/>
          <p:cNvGraphicFramePr/>
          <p:nvPr/>
        </p:nvGraphicFramePr>
        <p:xfrm>
          <a:off x="2170080" y="5056200"/>
          <a:ext cx="574560" cy="11923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60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2170080" y="5056200"/>
                    <a:ext cx="574560" cy="11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1" name=""/>
          <p:cNvGraphicFramePr/>
          <p:nvPr/>
        </p:nvGraphicFramePr>
        <p:xfrm>
          <a:off x="762120" y="5210280"/>
          <a:ext cx="1280880" cy="95076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762120" y="5210280"/>
                    <a:ext cx="128088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4329000" y="1932120"/>
          <a:ext cx="574920" cy="119196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4329000" y="1932120"/>
                    <a:ext cx="574920" cy="11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5" name=""/>
          <p:cNvSpPr/>
          <p:nvPr/>
        </p:nvSpPr>
        <p:spPr>
          <a:xfrm>
            <a:off x="3462120" y="3179880"/>
            <a:ext cx="23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caBIO/caCORE Serve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597560" y="3530520"/>
            <a:ext cx="0" cy="236232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2935080" y="5880240"/>
            <a:ext cx="1672920" cy="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935080" y="4102200"/>
            <a:ext cx="1672920" cy="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595760" y="4889520"/>
            <a:ext cx="434880" cy="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16600" y="4330800"/>
            <a:ext cx="0" cy="105408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005080" y="5372280"/>
            <a:ext cx="1228680" cy="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11960" y="396720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caBIO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978840" y="5605560"/>
            <a:ext cx="8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caDS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5005080" y="4343400"/>
            <a:ext cx="1228680" cy="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249200" y="930240"/>
            <a:ext cx="1721160" cy="819360"/>
          </a:xfrm>
          <a:prstGeom prst="ellipse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522440" y="560520"/>
            <a:ext cx="2089080" cy="819000"/>
          </a:xfrm>
          <a:prstGeom prst="ellipse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25400" y="668160"/>
            <a:ext cx="1447920" cy="819360"/>
          </a:xfrm>
          <a:prstGeom prst="ellipse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323000" y="895320"/>
            <a:ext cx="14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Internet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H="1" flipV="1">
            <a:off x="3060360" y="1606680"/>
            <a:ext cx="1073160" cy="43632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301880" y="3746520"/>
            <a:ext cx="123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Met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Thesauru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326000" y="558468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Thesauru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38560" y="380880"/>
            <a:ext cx="489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caCORE Simplified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82760" y="3819600"/>
            <a:ext cx="11811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caCORE caBIO ap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305160" y="5572080"/>
            <a:ext cx="1003320" cy="82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caCORE caDSR ap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114880" y="4600440"/>
            <a:ext cx="140040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caCORE EVS ap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6" name=""/>
          <p:cNvGraphicFramePr/>
          <p:nvPr/>
        </p:nvGraphicFramePr>
        <p:xfrm>
          <a:off x="6589800" y="3354480"/>
          <a:ext cx="574560" cy="119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9800" y="3354480"/>
                    <a:ext cx="574560" cy="11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8" name=""/>
          <p:cNvGraphicFramePr/>
          <p:nvPr/>
        </p:nvGraphicFramePr>
        <p:xfrm>
          <a:off x="7254720" y="3457440"/>
          <a:ext cx="1281240" cy="95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54720" y="3457440"/>
                    <a:ext cx="1281240" cy="9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6665760" y="5043600"/>
          <a:ext cx="574920" cy="119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65760" y="5043600"/>
                    <a:ext cx="574920" cy="11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7302600" y="5146560"/>
          <a:ext cx="1280880" cy="951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02600" y="5146560"/>
                    <a:ext cx="1280880" cy="9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4329000" y="1932120"/>
          <a:ext cx="574920" cy="1191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329000" y="1932120"/>
                    <a:ext cx="574920" cy="11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3462120" y="3179880"/>
            <a:ext cx="23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caBIO/caCORE Serve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597560" y="3544920"/>
            <a:ext cx="0" cy="136512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95760" y="4889520"/>
            <a:ext cx="434880" cy="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016600" y="4330800"/>
            <a:ext cx="0" cy="105408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H="1">
            <a:off x="5005080" y="5372280"/>
            <a:ext cx="1228680" cy="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5005080" y="4343400"/>
            <a:ext cx="1228680" cy="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301880" y="3746520"/>
            <a:ext cx="123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Met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Thesauru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326000" y="558468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Thesauru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210280" y="3892680"/>
            <a:ext cx="1411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Metaphras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291280" y="5473800"/>
            <a:ext cx="1411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DT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138560" y="380880"/>
            <a:ext cx="489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caCORE EV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917800" y="4654440"/>
            <a:ext cx="14000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caCORE EVS ap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"/>
          <p:cNvGraphicFramePr/>
          <p:nvPr/>
        </p:nvGraphicFramePr>
        <p:xfrm>
          <a:off x="6589800" y="3354480"/>
          <a:ext cx="574560" cy="119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9800" y="3354480"/>
                    <a:ext cx="574560" cy="11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0" name=""/>
          <p:cNvGraphicFramePr/>
          <p:nvPr/>
        </p:nvGraphicFramePr>
        <p:xfrm>
          <a:off x="7254720" y="3457440"/>
          <a:ext cx="1281240" cy="951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54720" y="3457440"/>
                    <a:ext cx="1281240" cy="9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2" name=""/>
          <p:cNvGraphicFramePr/>
          <p:nvPr/>
        </p:nvGraphicFramePr>
        <p:xfrm>
          <a:off x="6665760" y="5043600"/>
          <a:ext cx="574920" cy="1191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65760" y="5043600"/>
                    <a:ext cx="574920" cy="11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4" name=""/>
          <p:cNvGraphicFramePr/>
          <p:nvPr/>
        </p:nvGraphicFramePr>
        <p:xfrm>
          <a:off x="7302600" y="5146560"/>
          <a:ext cx="1280880" cy="9511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302600" y="5146560"/>
                    <a:ext cx="1280880" cy="9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1886040" y="1932120"/>
          <a:ext cx="574560" cy="1191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886040" y="1932120"/>
                    <a:ext cx="574560" cy="11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"/>
          <p:cNvSpPr/>
          <p:nvPr/>
        </p:nvSpPr>
        <p:spPr>
          <a:xfrm>
            <a:off x="1047240" y="3179880"/>
            <a:ext cx="23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caBIO/caCORE Serve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154240" y="3530520"/>
            <a:ext cx="0" cy="236232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152800" y="4889520"/>
            <a:ext cx="434880" cy="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573280" y="4330800"/>
            <a:ext cx="0" cy="105408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2562120" y="4343400"/>
            <a:ext cx="3835440" cy="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7301880" y="3746520"/>
            <a:ext cx="123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Met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Thesauru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7326000" y="558468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Thesauru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2571840" y="5367240"/>
            <a:ext cx="3835440" cy="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643200" y="4830840"/>
            <a:ext cx="1584360" cy="111924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591000" y="4902120"/>
            <a:ext cx="111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Clien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225320" y="556884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Serve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flipV="1">
            <a:off x="3657600" y="4858920"/>
            <a:ext cx="1541520" cy="1063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714840" y="6040440"/>
            <a:ext cx="1411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DTSRPC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210280" y="3892680"/>
            <a:ext cx="1411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Metaphrase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291280" y="5473800"/>
            <a:ext cx="1411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DT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138560" y="380880"/>
            <a:ext cx="489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caCORE EV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38280" y="4641840"/>
            <a:ext cx="14000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caCORE EVS ap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958680" y="1692360"/>
            <a:ext cx="49453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DTS Enhanced Functionality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011240" y="2316240"/>
            <a:ext cx="6897600" cy="1973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Tree generation and cach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Editing history 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138560" y="380880"/>
            <a:ext cx="489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EVS Enhancement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958680" y="1278000"/>
            <a:ext cx="3362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DTSRPC Function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011240" y="1901880"/>
            <a:ext cx="6897600" cy="448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Graph generation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tree &amp; graph caching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Complex queri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boolean operator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on Roles and Propertie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Queries by domain (e.g. in Drug “Kind”)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Collapse of multiple DTS API methods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into a single DTSRPC method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1" i="1" lang="en-US" sz="2400" spc="-1" strike="noStrike">
                <a:solidFill>
                  <a:srgbClr val="40458c"/>
                </a:solidFill>
                <a:latin typeface="Tahoma"/>
              </a:rPr>
              <a:t>simplification of common operations and performance increase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138560" y="380880"/>
            <a:ext cx="489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EVS Enhancements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41" name=""/>
          <p:cNvGraphicFramePr/>
          <p:nvPr/>
        </p:nvGraphicFramePr>
        <p:xfrm>
          <a:off x="7259760" y="4603680"/>
          <a:ext cx="1280880" cy="9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9760" y="4603680"/>
                    <a:ext cx="1280880" cy="9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7254720" y="4029120"/>
          <a:ext cx="1281240" cy="95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54720" y="4029120"/>
                    <a:ext cx="128124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6551640" y="4186080"/>
          <a:ext cx="574560" cy="119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51640" y="4186080"/>
                    <a:ext cx="574560" cy="11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7" name=""/>
          <p:cNvGraphicFramePr/>
          <p:nvPr/>
        </p:nvGraphicFramePr>
        <p:xfrm>
          <a:off x="1886040" y="1932120"/>
          <a:ext cx="574560" cy="119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86040" y="1932120"/>
                    <a:ext cx="574560" cy="11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9" name=""/>
          <p:cNvSpPr/>
          <p:nvPr/>
        </p:nvSpPr>
        <p:spPr>
          <a:xfrm>
            <a:off x="1047240" y="3179880"/>
            <a:ext cx="23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caBIO/caCORE Serve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2154240" y="3530520"/>
            <a:ext cx="0" cy="236232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7301880" y="4317840"/>
            <a:ext cx="123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Met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Thesauru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7326000" y="502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Thesauru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2160720" y="4881600"/>
            <a:ext cx="4217760" cy="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265720" y="4432320"/>
            <a:ext cx="1179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LexGrid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138560" y="909720"/>
            <a:ext cx="489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caCORE EVS, Open Source Alternative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38280" y="4641840"/>
            <a:ext cx="14000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caCORE EVS ap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57" name=""/>
          <p:cNvGraphicFramePr/>
          <p:nvPr/>
        </p:nvGraphicFramePr>
        <p:xfrm>
          <a:off x="7259760" y="4603680"/>
          <a:ext cx="1280880" cy="9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59760" y="4603680"/>
                    <a:ext cx="1280880" cy="9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7254720" y="4029120"/>
          <a:ext cx="1281240" cy="950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254720" y="4029120"/>
                    <a:ext cx="128124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6551640" y="4186080"/>
          <a:ext cx="574560" cy="1192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51640" y="4186080"/>
                    <a:ext cx="574560" cy="11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3" name=""/>
          <p:cNvGraphicFramePr/>
          <p:nvPr/>
        </p:nvGraphicFramePr>
        <p:xfrm>
          <a:off x="1886040" y="1932120"/>
          <a:ext cx="574560" cy="1191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886040" y="1932120"/>
                    <a:ext cx="574560" cy="119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>
            <a:off x="1047240" y="3179880"/>
            <a:ext cx="233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caBIO/caCORE Server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154240" y="3530520"/>
            <a:ext cx="0" cy="236232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01880" y="4317840"/>
            <a:ext cx="123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Meta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Thesauru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326000" y="502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Thesaurus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2160720" y="4881600"/>
            <a:ext cx="4217760" cy="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5265720" y="4432320"/>
            <a:ext cx="1179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LexGrid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643200" y="4245120"/>
            <a:ext cx="1584360" cy="1118880"/>
          </a:xfrm>
          <a:prstGeom prst="rect">
            <a:avLst/>
          </a:prstGeom>
          <a:solidFill>
            <a:srgbClr val="b7c1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591000" y="4316400"/>
            <a:ext cx="111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Client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225320" y="4983120"/>
            <a:ext cx="94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Tahoma"/>
              </a:rPr>
              <a:t>Server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3657600" y="4273560"/>
            <a:ext cx="1541520" cy="1063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714840" y="5454720"/>
            <a:ext cx="1411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DTSRPC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138560" y="909720"/>
            <a:ext cx="48974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660066"/>
                </a:solidFill>
                <a:latin typeface="Arial"/>
              </a:rPr>
              <a:t>caCORE EVS, Open Source Alternative</a:t>
            </a:r>
            <a:endParaRPr b="0" lang="en-US" sz="3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8280" y="4641840"/>
            <a:ext cx="14000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caCORE EVS api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2252520" y="3589200"/>
            <a:ext cx="1487520" cy="2621160"/>
          </a:xfrm>
          <a:custGeom>
            <a:avLst/>
            <a:gdLst/>
            <a:ahLst/>
            <a:rect l="l" t="t" r="r" b="b"/>
            <a:pathLst>
              <a:path w="937" h="1651">
                <a:moveTo>
                  <a:pt x="937" y="0"/>
                </a:moveTo>
                <a:cubicBezTo>
                  <a:pt x="787" y="114"/>
                  <a:pt x="638" y="229"/>
                  <a:pt x="576" y="292"/>
                </a:cubicBezTo>
                <a:cubicBezTo>
                  <a:pt x="514" y="355"/>
                  <a:pt x="606" y="326"/>
                  <a:pt x="567" y="378"/>
                </a:cubicBezTo>
                <a:cubicBezTo>
                  <a:pt x="528" y="430"/>
                  <a:pt x="377" y="550"/>
                  <a:pt x="343" y="602"/>
                </a:cubicBezTo>
                <a:cubicBezTo>
                  <a:pt x="309" y="654"/>
                  <a:pt x="369" y="638"/>
                  <a:pt x="361" y="688"/>
                </a:cubicBezTo>
                <a:cubicBezTo>
                  <a:pt x="353" y="738"/>
                  <a:pt x="302" y="826"/>
                  <a:pt x="292" y="903"/>
                </a:cubicBezTo>
                <a:cubicBezTo>
                  <a:pt x="282" y="980"/>
                  <a:pt x="313" y="1086"/>
                  <a:pt x="300" y="1152"/>
                </a:cubicBezTo>
                <a:cubicBezTo>
                  <a:pt x="287" y="1218"/>
                  <a:pt x="264" y="1215"/>
                  <a:pt x="214" y="1298"/>
                </a:cubicBezTo>
                <a:cubicBezTo>
                  <a:pt x="164" y="1381"/>
                  <a:pt x="36" y="1592"/>
                  <a:pt x="0" y="1651"/>
                </a:cubicBezTo>
              </a:path>
            </a:pathLst>
          </a:custGeom>
          <a:noFill/>
          <a:ln w="38160">
            <a:solidFill>
              <a:srgbClr val="40458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0T02:02:08Z</dcterms:created>
  <dc:creator>Compaq</dc:creator>
  <dc:description/>
  <dc:language>en-US</dc:language>
  <cp:lastModifiedBy>FragosoG</cp:lastModifiedBy>
  <cp:lastPrinted>2000-12-04T23:12:06Z</cp:lastPrinted>
  <dcterms:modified xsi:type="dcterms:W3CDTF">2005-06-10T20:11:47Z</dcterms:modified>
  <cp:revision>498</cp:revision>
  <dc:subject/>
  <dc:title>caBIO at BOSC 2002 - NCICB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</vt:lpwstr>
  </property>
  <property fmtid="{D5CDD505-2E9C-101B-9397-08002B2CF9AE}" pid="14" name="ScreenSize">
    <vt:r8>3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